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8AB-AC31-46A0-BAC2-4EDDF89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5F7-3F1C-459A-8319-8A308A9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927-4C46-4780-83F0-052F3F45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038-ED13-40AE-8210-A34B2E37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BB6-FB40-46EE-BBDF-31347A1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A6D-3303-4864-B1B2-196F17D4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978-E957-44D1-A4F6-BA76E0FC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DD9-E9C8-48ED-AADB-2DD57F8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FB9-EE57-4D08-8FEC-F489920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861-1CA2-42E7-8708-68EB725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9DF-7FD2-4EFB-B476-B7F0659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5CD-4CF1-4767-90A9-AAB7294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0DCC-D32A-4605-826D-AC86F853DE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144792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Differ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42Z</dcterms:modified>
  <cp:revision>214</cp:revision>
  <dc:subject/>
  <dc:title>Slide 1</dc:title>
</cp:coreProperties>
</file>